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495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6858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543800" y="61214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826776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三章  多维随机变量及其分布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8248680" y="6114960"/>
            <a:ext cx="514440" cy="514440"/>
          </a:xfrm>
          <a:custGeom>
            <a:avLst/>
            <a:gdLst>
              <a:gd name="textAreaLeft" fmla="*/ 33120 w 514440"/>
              <a:gd name="textAreaRight" fmla="*/ 481320 w 514440"/>
              <a:gd name="textAreaTop" fmla="*/ 33120 h 514440"/>
              <a:gd name="textAreaBottom" fmla="*/ 4813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762120"/>
                <a:ext cx="5372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1600200"/>
                <a:ext cx="4013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73400" y="2432160"/>
                <a:ext cx="4013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14400" y="3301920"/>
                <a:ext cx="5219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14400" y="4140360"/>
                <a:ext cx="3784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即知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45720" y="838080"/>
            <a:ext cx="9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028880" y="914400"/>
                <a:ext cx="621000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X和Y</m:t>
                        </m:r>
                        <m:r>
                          <m:rPr>
                            <m:lit/>
                            <m:nor/>
                          </m:rPr>
                          <m:t xml:space="preserve">的联合分布律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m>
                          <m:mr>
                            <m:e/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求概率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分布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87840" y="5500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841400" y="5626080"/>
                <a:ext cx="1968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14400" y="990720"/>
                <a:ext cx="5232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14400" y="2133720"/>
                <a:ext cx="2438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14400" y="3429000"/>
                <a:ext cx="7277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4724280"/>
                <a:ext cx="2463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01800" y="762120"/>
                <a:ext cx="7251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所有可能取的值为</m:t>
                    </m:r>
                    <m:r>
                      <m:t xml:space="preserve"> </m:t>
                    </m:r>
                    <m:r>
                      <m:t xml:space="preserve">0,1,2,3,4,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14400" y="1600200"/>
                <a:ext cx="4699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600880" y="1295280"/>
                <a:ext cx="799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14400" y="2438280"/>
                <a:ext cx="72644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971800" y="2971800"/>
                <a:ext cx="1917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4400" y="4114800"/>
                <a:ext cx="7302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971800" y="5257800"/>
                <a:ext cx="2666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901800" y="914400"/>
                <a:ext cx="732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71800" y="2057400"/>
                <a:ext cx="3340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914400" y="3352680"/>
                <a:ext cx="7327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97360" y="4114800"/>
                <a:ext cx="16509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914400" y="4876920"/>
                <a:ext cx="4699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971800" y="5638680"/>
                <a:ext cx="584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76240" y="762120"/>
                <a:ext cx="4076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分布律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384200" y="1447920"/>
                <a:ext cx="6540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</m:e>
                        <m:e/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5</m:t>
                          </m:r>
                          <m:r>
                            <m:t xml:space="preserve">/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5</m:t>
                          </m:r>
                          <m:r>
                            <m:t xml:space="preserve">/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51040" y="2743200"/>
                <a:ext cx="6769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所有可能取的值为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14400" y="3276720"/>
                <a:ext cx="7721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90920" y="4419720"/>
                <a:ext cx="3911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3080" y="4419720"/>
                <a:ext cx="978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715000"/>
                <a:ext cx="4241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181480" y="5676840"/>
                <a:ext cx="889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14400" y="762120"/>
                <a:ext cx="6934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666880" y="1295280"/>
                <a:ext cx="2298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96840" y="2438280"/>
                <a:ext cx="4305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340240" y="2438280"/>
                <a:ext cx="584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77760" y="3048120"/>
                <a:ext cx="4343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340240" y="3048120"/>
                <a:ext cx="584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96840" y="3657600"/>
                <a:ext cx="4343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59320" y="3657600"/>
                <a:ext cx="584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4368960"/>
                <a:ext cx="3733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分布律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76520" y="5130720"/>
                <a:ext cx="5689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/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  <m:r>
                            <m:t xml:space="preserve">/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/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/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56080" y="6732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914400" y="743040"/>
                <a:ext cx="76453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联合分布律及边缘分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律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20880" y="1219320"/>
                <a:ext cx="6984720" cy="49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m>
                          <m:mr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/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i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5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求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分布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在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条件下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条件分布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在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条件下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条件分布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在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条件下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条件分布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1520" y="762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498680" y="838080"/>
                <a:ext cx="4064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分布律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981080" y="1600200"/>
                <a:ext cx="33656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88840" y="3048120"/>
                <a:ext cx="64263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在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条件下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条件分布律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52560" y="3809880"/>
                <a:ext cx="4914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892840" y="3809880"/>
                <a:ext cx="1498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946080" y="5118120"/>
                <a:ext cx="4851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92840" y="5105520"/>
                <a:ext cx="1498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76240" y="914400"/>
                <a:ext cx="4927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892840" y="901800"/>
                <a:ext cx="1434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14400" y="2247840"/>
                <a:ext cx="47116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k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P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k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01800" y="3822840"/>
                <a:ext cx="6413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在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条件下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条件分布律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14400" y="4737240"/>
                <a:ext cx="49658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931000" y="4724280"/>
                <a:ext cx="1689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第三章 备用例题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556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38080" y="800280"/>
                <a:ext cx="7823160" cy="26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抛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枚硬币</m:t>
                        </m:r>
                        <m:r>
                          <m:t xml:space="preserve">,</m:t>
                        </m:r>
                        <m:r>
                          <m:t xml:space="preserve">以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表示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枚硬币出现正面的总</m:t>
                        </m:r>
                      </m:e>
                      <m:e>
                        <m:r>
                          <m:t xml:space="preserve">数</m:t>
                        </m:r>
                        <m:r>
                          <m:t xml:space="preserve">,</m:t>
                        </m:r>
                        <m:r>
                          <m:t xml:space="preserve">令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</m:t>
                                </m:r>
                                <m:r>
                                  <m:t xml:space="preserve">当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枚硬币中出现的正面数大于反面数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911520" y="3657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25000" y="3672000"/>
            <a:ext cx="42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样本空间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取值情况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14400" y="4495680"/>
                <a:ext cx="76960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样本点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HHH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HH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HTH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H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HT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TH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TT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</m:e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939960" y="927000"/>
                <a:ext cx="4914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31000" y="914400"/>
                <a:ext cx="1689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914400" y="2209680"/>
                <a:ext cx="4978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006960" y="2209680"/>
                <a:ext cx="1689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14400" y="3581280"/>
                <a:ext cx="62611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m>
                      <m:mr>
                        <m:e/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k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P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k</m:t>
                              </m:r>
                              <m:r>
                                <m:t xml:space="preserve">|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d>
                        </m:e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888840" y="5270400"/>
                <a:ext cx="7035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在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条件下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条件分布律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914400" y="990720"/>
                <a:ext cx="62355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09880" y="2209680"/>
                <a:ext cx="4203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/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/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914400" y="3517920"/>
                <a:ext cx="6172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09880" y="4876920"/>
                <a:ext cx="4203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/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939960" y="1003320"/>
                <a:ext cx="62481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36960" y="2362320"/>
                <a:ext cx="4368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/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14400" y="3809880"/>
                <a:ext cx="59943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m>
                      <m:mr>
                        <m:e/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k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P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k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68680" y="685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851040" y="812880"/>
                <a:ext cx="7886520" cy="26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rPr>
                            <m:lit/>
                            <m:nor/>
                          </m:rPr>
                          <m:t xml:space="preserve">设在一高速公路的某一路段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每年发生交通事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故的次数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对每次交通事故而言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有人死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亡的概率为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每次交通事故的后果是相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互独立的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以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记一年中发生的引起死亡的交通事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故的次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求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分布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911520" y="34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12800" y="3505320"/>
                <a:ext cx="2374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12800" y="4038480"/>
                <a:ext cx="5423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90720" y="5092560"/>
                <a:ext cx="6933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在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取特定值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可能值为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65160" y="5689440"/>
                <a:ext cx="657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各次交通事故的后果是相互独立的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所以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762120"/>
                <a:ext cx="76582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1513080" y="1995480"/>
            <a:ext cx="38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得到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联合分布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14400" y="2908440"/>
                <a:ext cx="6769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454560" y="3822840"/>
                <a:ext cx="42415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083120" y="5245200"/>
                <a:ext cx="4647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52560" y="5676840"/>
                <a:ext cx="262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于固定的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有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914400" y="762120"/>
                <a:ext cx="4673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30280" y="2133720"/>
                <a:ext cx="4572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260440" y="3809880"/>
                <a:ext cx="180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令u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27400" y="3657600"/>
                <a:ext cx="45975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190600" y="5054760"/>
                <a:ext cx="5803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  <m:r>
                              <m:t xml:space="preserve">u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f>
                      <m:num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927000" y="1219320"/>
                <a:ext cx="2235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359160" y="1219320"/>
                <a:ext cx="13208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13200" y="1244520"/>
                <a:ext cx="8762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334880" y="259092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得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分布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86040" y="3657600"/>
                <a:ext cx="4521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3556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14400" y="812880"/>
                <a:ext cx="6870600" cy="32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联合分布律为</m:t>
                        </m:r>
                      </m:e>
                      <m:e>
                        <m:m>
                          <m:mr>
                            <m:e/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i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t xml:space="preserve">问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是否相互独立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911520" y="4191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0612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914400" y="4952880"/>
                <a:ext cx="6477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914400" y="5638680"/>
                <a:ext cx="6540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46080" y="838080"/>
                <a:ext cx="6477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27000" y="1600200"/>
                <a:ext cx="6540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52560" y="2438280"/>
                <a:ext cx="6464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939960" y="3352680"/>
                <a:ext cx="652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990720" y="4165560"/>
                <a:ext cx="3581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故知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相互独立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92720" y="7002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87320" y="749160"/>
                <a:ext cx="7975800" cy="326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相互独立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分别具有</m:t>
                        </m:r>
                      </m:e>
                      <m:e>
                        <m:r>
                          <m:t xml:space="preserve">以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为参数的几何分布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即它们分别具有分布律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写出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联合分布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求概率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987840" y="4114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08880" y="4129200"/>
            <a:ext cx="33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联合分布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41480" y="4876920"/>
                <a:ext cx="6350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718160" y="5702400"/>
                <a:ext cx="36576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76240" y="1035000"/>
                <a:ext cx="6591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易得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联合分布律及边缘分布律为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" name=""/>
          <p:cNvGrpSpPr/>
          <p:nvPr/>
        </p:nvGrpSpPr>
        <p:grpSpPr>
          <a:xfrm>
            <a:off x="1523880" y="2120760"/>
            <a:ext cx="5257800" cy="2984400"/>
            <a:chOff x="1523880" y="2120760"/>
            <a:chExt cx="5257800" cy="2984400"/>
          </a:xfrm>
        </p:grpSpPr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1600200" y="2196720"/>
                  <a:ext cx="5168880" cy="290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/>
                          <m:e>
                            <m:r>
                              <m:t xml:space="preserve">0</m:t>
                            </m:r>
                          </m:e>
                          <m:e>
                            <m:r>
                              <m:t xml:space="preserve">1</m:t>
                            </m:r>
                          </m:e>
                          <m:e>
                            <m:r>
                              <m:t xml:space="preserve">2</m:t>
                            </m:r>
                          </m:e>
                          <m:e>
                            <m:r>
                              <m:t xml:space="preserve">3</m:t>
                            </m:r>
                          </m:e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1</m:t>
                            </m:r>
                          </m:e>
                          <m:e>
                            <m:r>
                              <m:t xml:space="preserve">0</m:t>
                            </m:r>
                          </m:e>
                          <m:e>
                            <m:r>
                              <m:t xml:space="preserve">0</m:t>
                            </m:r>
                          </m:e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mr>
                        <m:m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  <m:e>
                            <m:r>
                              <m:t xml:space="preserve">0</m:t>
                            </m:r>
                          </m:e>
                          <m:e>
                            <m:r>
                              <m:t xml:space="preserve">0</m:t>
                            </m:r>
                          </m:e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mr>
                        <m:m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  <m:e>
                            <m:r>
                              <m:t xml:space="preserve">1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2" name=""/>
            <p:cNvSpPr/>
            <p:nvPr/>
          </p:nvSpPr>
          <p:spPr>
            <a:xfrm>
              <a:off x="1600200" y="227304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2286000" y="2120760"/>
                  <a:ext cx="35568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752480" y="2349360"/>
                  <a:ext cx="2793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1600200" y="5092560"/>
              <a:ext cx="518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3880" y="2120760"/>
              <a:ext cx="518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95320" y="927000"/>
                <a:ext cx="3848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别当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914400" y="1663560"/>
                <a:ext cx="68198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914400" y="2362320"/>
                <a:ext cx="5003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959200" y="3619440"/>
                <a:ext cx="4279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952720" y="4838760"/>
                <a:ext cx="41655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914400" y="762120"/>
                <a:ext cx="3009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914400" y="2209680"/>
                <a:ext cx="2552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52560" y="3733920"/>
                <a:ext cx="3848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别当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057400" y="4495680"/>
                <a:ext cx="4305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68680" y="7002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65160" y="800280"/>
                <a:ext cx="6121440" cy="27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具有概率密度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p>
                                  <m:e>
                                    <m:r>
                                      <m:t xml:space="preserve">C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987840" y="35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89280" y="3581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857160" y="4267080"/>
                <a:ext cx="3238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C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sup>
                        </m:sSup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200240" y="5143680"/>
                <a:ext cx="2984400" cy="100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</m:sSubSup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223" name=""/>
          <p:cNvGraphicFramePr/>
          <p:nvPr/>
        </p:nvGraphicFramePr>
        <p:xfrm>
          <a:off x="4643280" y="2852640"/>
          <a:ext cx="3961080" cy="28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852640"/>
                    <a:ext cx="396108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44560" y="685800"/>
                <a:ext cx="2654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914400"/>
                <a:ext cx="1346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914400" y="1600200"/>
                <a:ext cx="4280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143160" y="2666880"/>
                <a:ext cx="284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sup>
                        </m:sSup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137040" y="3733920"/>
                <a:ext cx="3073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</m:sSubSup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092400" y="4991040"/>
                <a:ext cx="398772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68680" y="685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14400" y="762120"/>
                <a:ext cx="7645320" cy="535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设以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表示某一推销员一天花费在汽油上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款项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以美元计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以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表示推销员一天所得的补</m:t>
                        </m:r>
                      </m:e>
                      <m:e>
                        <m:r>
                          <m:t xml:space="preserve">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以美元计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已知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联合概率密度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&lt;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87840" y="762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89280" y="762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41480" y="4356000"/>
                <a:ext cx="58165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dy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6" name=""/>
          <p:cNvGraphicFramePr/>
          <p:nvPr/>
        </p:nvGraphicFramePr>
        <p:xfrm>
          <a:off x="1619280" y="1341360"/>
          <a:ext cx="5832360" cy="28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341360"/>
                    <a:ext cx="58323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914400" y="952560"/>
                <a:ext cx="74804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965160" y="2895480"/>
                <a:ext cx="5740560" cy="280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  <m:r>
                                  <m:t xml:space="preserve">dx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,</m:t>
                                </m:r>
                              </m:e>
                            </m:nary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  <m:r>
                                  <m:t xml:space="preserve">dx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14400" y="1066680"/>
                <a:ext cx="6642000" cy="33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即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39960" y="692280"/>
                <a:ext cx="7289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当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 </m:t>
                        </m:r>
                        <m:r>
                          <m:t xml:space="preserve">时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条件概率密度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存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87320" y="1981080"/>
                <a:ext cx="3175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092240" y="2590920"/>
                <a:ext cx="6603840" cy="22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y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914400" y="5092560"/>
                <a:ext cx="7594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当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&lt;</m:t>
                        </m:r>
                        <m:r>
                          <m:t xml:space="preserve">y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或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时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存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857160" y="762120"/>
                <a:ext cx="259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y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39960" y="1447920"/>
                <a:ext cx="7365960" cy="22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432160" y="4254480"/>
                <a:ext cx="57276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68680" y="7002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14400" y="762120"/>
                <a:ext cx="763272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湖中有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条鱼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用网去捕鱼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设一条鱼被捕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概率为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各条鱼是否被捕到相互独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以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第一网捕到的鱼的条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以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记第二网捕到的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条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求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的联合分布律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求边缘分布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911520" y="298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23880" y="3048120"/>
                <a:ext cx="4584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由题意知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即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00200" y="3657600"/>
                <a:ext cx="6184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,2,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4876920"/>
                <a:ext cx="4407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且有当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94440" y="4876920"/>
                <a:ext cx="3644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914400" y="5638680"/>
                <a:ext cx="3645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181480" y="5664240"/>
                <a:ext cx="2857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14400" y="762120"/>
                <a:ext cx="2768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028880" y="1397160"/>
                <a:ext cx="7188120" cy="23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y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527200" y="4025880"/>
                <a:ext cx="553716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y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990720" y="762120"/>
                <a:ext cx="76960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注意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是单个自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函数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是一个固定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939960" y="2133720"/>
                <a:ext cx="56131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条件概率密度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057400" y="2933640"/>
                <a:ext cx="44578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</m:t>
                            </m:r>
                            <m:r>
                              <m:t xml:space="preserve">6</m:t>
                            </m:r>
                            <m:r>
                              <m:t xml:space="preserve">&lt;</m:t>
                            </m:r>
                            <m:r>
                              <m:t xml:space="preserve">y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958680" y="4724280"/>
                <a:ext cx="42926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8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372280" y="4724280"/>
                <a:ext cx="6476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68320" y="60948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888840" y="660240"/>
                <a:ext cx="7797960" cy="549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我们常假设某种型号的电子元件的寿命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服从指数分布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其密度为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p>
                                  <m:e>
                                    <m:r>
                                      <m:t xml:space="preserve">λ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x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95320" y="749160"/>
                <a:ext cx="461016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现设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概率密度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p>
                                  <m:e>
                                    <m:r>
                                      <m:t xml:space="preserve">λ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911520" y="3137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600200" y="3213000"/>
                <a:ext cx="4724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先求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联合密度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即有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14400" y="4000680"/>
                <a:ext cx="3873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22640" y="4902120"/>
                <a:ext cx="41781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λ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914400" y="762120"/>
                <a:ext cx="31878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概率密度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74720" y="1282680"/>
                <a:ext cx="5956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λ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d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670040" y="2330280"/>
                <a:ext cx="595620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∞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752480" y="3790800"/>
                <a:ext cx="3276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752480" y="5181480"/>
                <a:ext cx="3479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977760" y="876240"/>
                <a:ext cx="2768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77760" y="1828800"/>
                <a:ext cx="497844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68320" y="70020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870120" y="749160"/>
                <a:ext cx="770868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问例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中的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是否相互独</m:t>
                        </m:r>
                      </m:e>
                      <m:e>
                        <m:r>
                          <m:t xml:space="preserve">立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在时刻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时开始计时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事件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分别在时刻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发生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是相互独立的随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变量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其其概率密度分别为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911520" y="5424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816200" y="5486400"/>
                <a:ext cx="5422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在例</m:t>
                    </m:r>
                    <m:r>
                      <m:t xml:space="preserve"> </m:t>
                    </m:r>
                    <m:r>
                      <m:t xml:space="preserve">9</m:t>
                    </m:r>
                    <m:r>
                      <m:t xml:space="preserve"> </m:t>
                    </m:r>
                    <m:r>
                      <m:t xml:space="preserve">中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≠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914400" y="762120"/>
                <a:ext cx="4292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故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不是相互独立的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876240" y="1447920"/>
                <a:ext cx="8115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由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独立性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知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联合概率密度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14680" y="2197080"/>
                <a:ext cx="54100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77" name=""/>
          <p:cNvGraphicFramePr/>
          <p:nvPr/>
        </p:nvGraphicFramePr>
        <p:xfrm>
          <a:off x="2771640" y="3429000"/>
          <a:ext cx="3240360" cy="282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3429000"/>
                    <a:ext cx="324036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838080" y="787320"/>
                <a:ext cx="5524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按题意需求概率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Y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如图知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857160" y="1523880"/>
                <a:ext cx="4584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8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x</m:t>
                        </m:r>
                        <m:r>
                          <m:t xml:space="preserve"> </m:t>
                        </m:r>
                        <m: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98600" y="2743200"/>
                <a:ext cx="3479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y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8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305080" y="3797280"/>
                <a:ext cx="3797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sup>
                    </m:sSup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]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sup>
                    </m:sSubSup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330280" y="5105520"/>
                <a:ext cx="3708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298600" y="876240"/>
                <a:ext cx="44704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sup>
                        </m:sSup>
                      </m:e>
                    </m:d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324160" y="2178000"/>
                <a:ext cx="40766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y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</m:sup>
                            </m:sSup>
                          </m:e>
                        </m:d>
                        <m: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286000" y="3581280"/>
                <a:ext cx="749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14400" y="762120"/>
                <a:ext cx="6362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可能取的值均为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于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523880" y="1523880"/>
                <a:ext cx="6222960" cy="21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当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当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当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23880" y="4254480"/>
                <a:ext cx="622296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当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当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868320" y="70020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907920" y="762120"/>
                <a:ext cx="7632720" cy="46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服从柯西分布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其概率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度为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又设随机变量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在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服从均匀分布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且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相互独立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求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概率密度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分别在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上服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从均匀分布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又设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相互独立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求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概率密度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11520" y="5576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752480" y="5638680"/>
                <a:ext cx="3048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概率密度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14400" y="762120"/>
                <a:ext cx="37209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y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65160" y="2577960"/>
                <a:ext cx="43689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822320" y="3657600"/>
                <a:ext cx="2845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822320" y="4940280"/>
                <a:ext cx="24004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95" name=""/>
          <p:cNvGraphicFramePr/>
          <p:nvPr/>
        </p:nvGraphicFramePr>
        <p:xfrm>
          <a:off x="5041800" y="3130560"/>
          <a:ext cx="3457800" cy="27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41800" y="3130560"/>
                    <a:ext cx="345780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727280" y="685800"/>
                <a:ext cx="5283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914400" y="1752480"/>
                <a:ext cx="4610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概率密度分别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90720" y="2590920"/>
                <a:ext cx="739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888840" y="3949560"/>
                <a:ext cx="44578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965160" y="5029200"/>
                <a:ext cx="34545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图知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02" name=""/>
          <p:cNvGraphicFramePr/>
          <p:nvPr/>
        </p:nvGraphicFramePr>
        <p:xfrm>
          <a:off x="5349960" y="3803760"/>
          <a:ext cx="3097080" cy="221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9960" y="3803760"/>
                    <a:ext cx="309708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952560" y="774720"/>
                <a:ext cx="75819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882720" y="1866960"/>
                <a:ext cx="5892840" cy="24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并且有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dx</m:t>
                                </m:r>
                              </m:e>
                            </m:nary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dx</m:t>
                                </m:r>
                              </m:e>
                            </m:nary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0400" y="4572000"/>
                <a:ext cx="35179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66680" y="1022400"/>
                <a:ext cx="67946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说明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此题也可以先求出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分布函数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然后再对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关于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求导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便可求得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868320" y="70020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041480" y="782640"/>
                <a:ext cx="574020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设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和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联合概率密度为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911520" y="3048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752480" y="3124080"/>
                <a:ext cx="5321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先求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分布函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517760" y="3835440"/>
                <a:ext cx="29462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如图</m:t>
                    </m:r>
                    <m:r>
                      <m:t xml:space="preserve"> </m:t>
                    </m:r>
                    <m:r>
                      <m:t xml:space="preserve">有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914400" y="4572000"/>
                <a:ext cx="256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81280" y="4584600"/>
                <a:ext cx="2286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809720" y="5257800"/>
                <a:ext cx="2654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x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16" name=""/>
          <p:cNvGraphicFramePr/>
          <p:nvPr/>
        </p:nvGraphicFramePr>
        <p:xfrm>
          <a:off x="5796000" y="3773520"/>
          <a:ext cx="2870280" cy="22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3773520"/>
                    <a:ext cx="28702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74720" y="673200"/>
                <a:ext cx="3124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87320" y="1657440"/>
                <a:ext cx="32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[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∞</m:t>
                            </m:r>
                          </m:sup>
                        </m:sSubSup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876240" y="2755800"/>
                <a:ext cx="3162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e>
                    </m:nary>
                    <m: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441440" y="3828960"/>
                <a:ext cx="3048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如图</m:t>
                    </m:r>
                    <m:r>
                      <m:t xml:space="preserve"> </m:t>
                    </m:r>
                    <m:r>
                      <m:t xml:space="preserve">有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838080" y="4495680"/>
                <a:ext cx="2565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429000" y="452124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772240" y="4419720"/>
                <a:ext cx="2654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x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727280" y="5397480"/>
                <a:ext cx="581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dy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6" name=""/>
          <p:cNvGraphicFramePr/>
          <p:nvPr/>
        </p:nvGraphicFramePr>
        <p:xfrm>
          <a:off x="5437080" y="1119240"/>
          <a:ext cx="2664000" cy="25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7080" y="1119240"/>
                    <a:ext cx="266400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00280" y="825480"/>
                <a:ext cx="6286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sup>
                        </m:sSup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∞</m:t>
                            </m:r>
                          </m:sup>
                        </m:sSubSup>
                      </m:e>
                    </m:nary>
                    <m: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sup>
                        </m:sSup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∞</m:t>
                            </m:r>
                          </m:sup>
                        </m:sSubSup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87320" y="2006640"/>
                <a:ext cx="37339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559400" y="1943280"/>
                <a:ext cx="2222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z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z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896160" y="1917720"/>
                <a:ext cx="156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z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914400" y="3162240"/>
                <a:ext cx="66927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将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关于求导数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得到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概率密度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65160" y="4000680"/>
                <a:ext cx="331488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863960" y="4381560"/>
                <a:ext cx="27054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31320" y="3641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14680" y="3565440"/>
                <a:ext cx="4838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因为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dxd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844560" y="4484520"/>
                <a:ext cx="5359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dyd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514600" y="5334120"/>
                <a:ext cx="1359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914400" y="746280"/>
                <a:ext cx="6743880" cy="26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二维随机变量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具有概率密度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868320" y="69228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914400" y="1295280"/>
                <a:ext cx="27939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733920" y="990720"/>
                <a:ext cx="4533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dy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914400" y="2514600"/>
                <a:ext cx="2158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124080" y="2286000"/>
                <a:ext cx="4813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dyd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14400" y="3809880"/>
                <a:ext cx="2476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14400" y="4724280"/>
                <a:ext cx="4737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dxd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429000" y="3809880"/>
                <a:ext cx="2273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5791320" y="3400560"/>
            <a:ext cx="2779560" cy="2043720"/>
            <a:chOff x="5791320" y="3400560"/>
            <a:chExt cx="2779560" cy="204372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6012000" y="5086080"/>
                  <a:ext cx="204480" cy="24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791320" y="506232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7640" y="3414240"/>
              <a:ext cx="0" cy="20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40360" y="3717720"/>
              <a:ext cx="2303640" cy="1437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7640" y="3919320"/>
              <a:ext cx="1800360" cy="1125360"/>
            </a:xfrm>
            <a:prstGeom prst="rtTriangl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8317080" y="5143320"/>
                  <a:ext cx="253800" cy="24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5" name=""/>
                <p:cNvSpPr txBox="1"/>
                <p:nvPr/>
              </p:nvSpPr>
              <p:spPr>
                <a:xfrm>
                  <a:off x="6248520" y="3400560"/>
                  <a:ext cx="25380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429240" y="4216320"/>
                  <a:ext cx="1397160" cy="39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wipe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14400" y="762120"/>
                <a:ext cx="5816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当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14400" y="2286000"/>
                <a:ext cx="3022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01800" y="3200400"/>
                <a:ext cx="6870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再利用乘法公式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可得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联合分布律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39960" y="4051440"/>
                <a:ext cx="7365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例如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43400" y="4800600"/>
                <a:ext cx="2705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343400" y="5562720"/>
                <a:ext cx="1511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056240" y="25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738440" y="3203640"/>
                <a:ext cx="3544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334120" y="3222720"/>
                <a:ext cx="1790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sup>
                        </m:sSup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633760" y="4102200"/>
                <a:ext cx="3547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7201080" y="3327480"/>
                <a:ext cx="876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914400" y="4267080"/>
                <a:ext cx="1676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6273720" y="4295880"/>
                <a:ext cx="5842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906480" y="4991040"/>
                <a:ext cx="43052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故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934920" y="744480"/>
                <a:ext cx="69976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设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916200" y="93996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638360" y="2590920"/>
                <a:ext cx="232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600200" y="1012680"/>
                <a:ext cx="2463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587600" y="2816280"/>
                <a:ext cx="2679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x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sup>
                        </m:sSup>
                        <m: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600200" y="3984480"/>
                <a:ext cx="3238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944960" y="4032360"/>
                <a:ext cx="228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582560" y="1774800"/>
                <a:ext cx="2857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d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5042160" y="837720"/>
            <a:ext cx="3336480" cy="2375280"/>
            <a:chOff x="5042160" y="837720"/>
            <a:chExt cx="3336480" cy="2375280"/>
          </a:xfrm>
        </p:grpSpPr>
        <p:sp>
          <p:nvSpPr>
            <p:cNvPr id="374" name=""/>
            <p:cNvSpPr/>
            <p:nvPr/>
          </p:nvSpPr>
          <p:spPr>
            <a:xfrm flipH="1" rot="18900000">
              <a:off x="5250240" y="1544400"/>
              <a:ext cx="1008720" cy="10080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48360" y="274320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757840" y="83772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757840" y="1587240"/>
              <a:ext cx="1185840" cy="11559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6087960" y="1301760"/>
                  <a:ext cx="838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5400720" y="2743200"/>
                  <a:ext cx="291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8126280" y="2825640"/>
                  <a:ext cx="25236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5383080" y="920520"/>
                  <a:ext cx="2523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6727680" y="2063520"/>
                  <a:ext cx="13082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3" name=""/>
            <p:cNvSpPr/>
            <p:nvPr/>
          </p:nvSpPr>
          <p:spPr>
            <a:xfrm>
              <a:off x="6519960" y="1218960"/>
              <a:ext cx="0" cy="15242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6291360" y="2590560"/>
                  <a:ext cx="48240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385" name=""/>
            <p:cNvSpPr/>
            <p:nvPr/>
          </p:nvSpPr>
          <p:spPr>
            <a:xfrm>
              <a:off x="5751360" y="1330200"/>
              <a:ext cx="1408320" cy="14079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l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02880" y="453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676520" y="4454640"/>
                <a:ext cx="49784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8" name=""/>
          <p:cNvGrpSpPr/>
          <p:nvPr/>
        </p:nvGrpSpPr>
        <p:grpSpPr>
          <a:xfrm>
            <a:off x="930240" y="720720"/>
            <a:ext cx="5775120" cy="3568320"/>
            <a:chOff x="930240" y="720720"/>
            <a:chExt cx="5775120" cy="3568320"/>
          </a:xfrm>
        </p:grpSpPr>
        <p:grpSp>
          <p:nvGrpSpPr>
            <p:cNvPr id="389" name=""/>
            <p:cNvGrpSpPr/>
            <p:nvPr/>
          </p:nvGrpSpPr>
          <p:grpSpPr>
            <a:xfrm>
              <a:off x="1752480" y="1406520"/>
              <a:ext cx="4952880" cy="2133360"/>
              <a:chOff x="1752480" y="1406520"/>
              <a:chExt cx="4952880" cy="213336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752480" y="1406520"/>
                <a:ext cx="4952880" cy="2133360"/>
                <a:chOff x="1752480" y="1406520"/>
                <a:chExt cx="4952880" cy="213336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1752480" y="1406520"/>
                  <a:ext cx="495288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752480" y="1939680"/>
                  <a:ext cx="495288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752480" y="3539880"/>
                  <a:ext cx="495288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819160" y="1406520"/>
                  <a:ext cx="0" cy="213336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752480" y="1406520"/>
                  <a:ext cx="1066680" cy="53316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96" name=""/>
                  <p:cNvSpPr txBox="1"/>
                  <p:nvPr/>
                </p:nvSpPr>
                <p:spPr>
                  <a:xfrm>
                    <a:off x="2444400" y="1418760"/>
                    <a:ext cx="35568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7" name=""/>
                  <p:cNvSpPr txBox="1"/>
                  <p:nvPr/>
                </p:nvSpPr>
                <p:spPr>
                  <a:xfrm>
                    <a:off x="1834920" y="1571400"/>
                    <a:ext cx="2779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8" name=""/>
                  <p:cNvSpPr txBox="1"/>
                  <p:nvPr/>
                </p:nvSpPr>
                <p:spPr>
                  <a:xfrm>
                    <a:off x="3352680" y="1558440"/>
                    <a:ext cx="276696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9" name=""/>
                  <p:cNvSpPr txBox="1"/>
                  <p:nvPr/>
                </p:nvSpPr>
                <p:spPr>
                  <a:xfrm>
                    <a:off x="2209680" y="2015640"/>
                    <a:ext cx="215640" cy="1485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0" name=""/>
                  <p:cNvSpPr txBox="1"/>
                  <p:nvPr/>
                </p:nvSpPr>
                <p:spPr>
                  <a:xfrm>
                    <a:off x="3073320" y="2028600"/>
                    <a:ext cx="698400" cy="41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1" name=""/>
                  <p:cNvSpPr txBox="1"/>
                  <p:nvPr/>
                </p:nvSpPr>
                <p:spPr>
                  <a:xfrm>
                    <a:off x="4286160" y="2028600"/>
                    <a:ext cx="698400" cy="41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9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2" name=""/>
                  <p:cNvSpPr txBox="1"/>
                  <p:nvPr/>
                </p:nvSpPr>
                <p:spPr>
                  <a:xfrm>
                    <a:off x="5511600" y="2028600"/>
                    <a:ext cx="698400" cy="41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3" name=""/>
                  <p:cNvSpPr txBox="1"/>
                  <p:nvPr/>
                </p:nvSpPr>
                <p:spPr>
                  <a:xfrm>
                    <a:off x="3073320" y="2560320"/>
                    <a:ext cx="671400" cy="41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4" name=""/>
                  <p:cNvSpPr txBox="1"/>
                  <p:nvPr/>
                </p:nvSpPr>
                <p:spPr>
                  <a:xfrm>
                    <a:off x="4292280" y="2560320"/>
                    <a:ext cx="671760" cy="41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5" name=""/>
                  <p:cNvSpPr txBox="1"/>
                  <p:nvPr/>
                </p:nvSpPr>
                <p:spPr>
                  <a:xfrm>
                    <a:off x="5638680" y="2549160"/>
                    <a:ext cx="201600" cy="31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6" name=""/>
                  <p:cNvSpPr txBox="1"/>
                  <p:nvPr/>
                </p:nvSpPr>
                <p:spPr>
                  <a:xfrm>
                    <a:off x="3073320" y="3095280"/>
                    <a:ext cx="660240" cy="417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4501800" y="3088800"/>
                    <a:ext cx="201600" cy="31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5638680" y="3082680"/>
                    <a:ext cx="201600" cy="31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09" name=""/>
            <p:cNvSpPr/>
            <p:nvPr/>
          </p:nvSpPr>
          <p:spPr>
            <a:xfrm>
              <a:off x="930240" y="3768480"/>
              <a:ext cx="35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1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条件分布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28680" y="720720"/>
              <a:ext cx="21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6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已知分布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l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295280" y="3352680"/>
                <a:ext cx="40896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282680" y="4495680"/>
                <a:ext cx="3924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914400" y="2209680"/>
                <a:ext cx="45975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914400" y="1066680"/>
                <a:ext cx="53341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858000" y="1295280"/>
                <a:ext cx="14479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520280" y="1219320"/>
            <a:ext cx="45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条件下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分布律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914400" y="2286000"/>
            <a:ext cx="5943600" cy="1523880"/>
            <a:chOff x="914400" y="2286000"/>
            <a:chExt cx="5943600" cy="1523880"/>
          </a:xfrm>
        </p:grpSpPr>
        <p:sp>
          <p:nvSpPr>
            <p:cNvPr id="418" name=""/>
            <p:cNvSpPr/>
            <p:nvPr/>
          </p:nvSpPr>
          <p:spPr>
            <a:xfrm>
              <a:off x="914400" y="2895480"/>
              <a:ext cx="59436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76720" y="2286000"/>
              <a:ext cx="0" cy="1523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1981080" y="2514600"/>
                  <a:ext cx="355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914400" y="3124080"/>
                  <a:ext cx="22827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3733920" y="2514600"/>
                  <a:ext cx="278748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3733920" y="2895480"/>
                  <a:ext cx="28191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wipe dir="l"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12240" y="3543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828800" y="4054320"/>
                <a:ext cx="29336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为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149720" y="4724280"/>
                <a:ext cx="273060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6991560" y="533412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存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143000" y="5105520"/>
                <a:ext cx="29559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988920" y="801720"/>
                <a:ext cx="7240680" cy="27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随机变量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联合概率密度为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945000" y="762120"/>
            <a:ext cx="10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7164360" y="5176800"/>
                <a:ext cx="703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1523880" y="3543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错误解法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275480" y="762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确解法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089080" y="1511280"/>
                <a:ext cx="3353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3086280" y="2590920"/>
                <a:ext cx="32130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xdy</m:t>
                                </m:r>
                                <m:r>
                                  <m:t xml:space="preserve">,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041640" y="4178160"/>
                <a:ext cx="33019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914400" y="990720"/>
                <a:ext cx="3657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156120" y="2286000"/>
                <a:ext cx="43941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/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y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937440" y="420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216320" y="3962520"/>
                <a:ext cx="26416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211640" y="5079960"/>
                <a:ext cx="1917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8</m:t>
                        </m:r>
                        <m:r>
                          <m:t xml:space="preserve">d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2057400" y="4052880"/>
                <a:ext cx="21448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57160" y="424656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1523880" y="4170240"/>
                <a:ext cx="4838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因为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dxd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799160" y="5168880"/>
                <a:ext cx="3201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dy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988920" y="5168880"/>
                <a:ext cx="37972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可得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dx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028880" y="787320"/>
                <a:ext cx="7353000" cy="30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设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，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868320" y="69048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944640" y="1828800"/>
                <a:ext cx="67514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故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914400" y="3352680"/>
                <a:ext cx="69724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057400" y="4267080"/>
                <a:ext cx="2117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965160" y="2895480"/>
                <a:ext cx="3073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022400" y="4978440"/>
                <a:ext cx="3048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或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914400" y="5551560"/>
                <a:ext cx="4548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5" name=""/>
          <p:cNvGrpSpPr/>
          <p:nvPr/>
        </p:nvGrpSpPr>
        <p:grpSpPr>
          <a:xfrm>
            <a:off x="5762520" y="3879720"/>
            <a:ext cx="2697120" cy="2141640"/>
            <a:chOff x="5762520" y="3879720"/>
            <a:chExt cx="2697120" cy="2141640"/>
          </a:xfrm>
        </p:grpSpPr>
        <p:sp>
          <p:nvSpPr>
            <p:cNvPr id="456" name=""/>
            <p:cNvSpPr/>
            <p:nvPr/>
          </p:nvSpPr>
          <p:spPr>
            <a:xfrm>
              <a:off x="5762520" y="5719680"/>
              <a:ext cx="26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219720" y="4119120"/>
              <a:ext cx="0" cy="18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219720" y="3879720"/>
              <a:ext cx="1828800" cy="1828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6600960" y="4272120"/>
                  <a:ext cx="8506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5908680" y="5749920"/>
                  <a:ext cx="19836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8182080" y="5781600"/>
                  <a:ext cx="25236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5915160" y="4119480"/>
                  <a:ext cx="2523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3" name=""/>
            <p:cNvSpPr/>
            <p:nvPr/>
          </p:nvSpPr>
          <p:spPr>
            <a:xfrm>
              <a:off x="7667640" y="4043520"/>
              <a:ext cx="0" cy="16650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7686720" y="4800600"/>
                  <a:ext cx="77292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5" name=""/>
            <p:cNvSpPr/>
            <p:nvPr/>
          </p:nvSpPr>
          <p:spPr>
            <a:xfrm rot="16284600">
              <a:off x="6243480" y="4298400"/>
              <a:ext cx="1447560" cy="1371600"/>
            </a:xfrm>
            <a:prstGeom prst="rtTriangl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219320" y="736560"/>
                <a:ext cx="25066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5181480" y="106668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886200" y="787320"/>
                <a:ext cx="1109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14400" y="762120"/>
                <a:ext cx="62611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76720" y="1523880"/>
                <a:ext cx="2514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14400" y="2286000"/>
                <a:ext cx="6299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76720" y="3048120"/>
                <a:ext cx="237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14400" y="3886200"/>
                <a:ext cx="4102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又知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14400" y="4635360"/>
                <a:ext cx="440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14400" y="5473800"/>
                <a:ext cx="4813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990720" y="3416400"/>
                <a:ext cx="3673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57400" y="5425920"/>
                <a:ext cx="1828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57400" y="4368960"/>
                <a:ext cx="2949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752480" y="1409760"/>
                <a:ext cx="49784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607760" y="762120"/>
            <a:ext cx="42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边缘概率密度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990720" y="2768760"/>
                <a:ext cx="2197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5" name=""/>
          <p:cNvGrpSpPr/>
          <p:nvPr/>
        </p:nvGrpSpPr>
        <p:grpSpPr>
          <a:xfrm>
            <a:off x="5508720" y="3141360"/>
            <a:ext cx="2697120" cy="2142000"/>
            <a:chOff x="5508720" y="3141360"/>
            <a:chExt cx="2697120" cy="2142000"/>
          </a:xfrm>
        </p:grpSpPr>
        <p:sp>
          <p:nvSpPr>
            <p:cNvPr id="476" name=""/>
            <p:cNvSpPr/>
            <p:nvPr/>
          </p:nvSpPr>
          <p:spPr>
            <a:xfrm>
              <a:off x="5508720" y="498168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965920" y="314136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965920" y="3141720"/>
              <a:ext cx="1828800" cy="1828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9" name=""/>
                <p:cNvSpPr txBox="1"/>
                <p:nvPr/>
              </p:nvSpPr>
              <p:spPr>
                <a:xfrm>
                  <a:off x="6346800" y="3533760"/>
                  <a:ext cx="8510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5654520" y="5011560"/>
                  <a:ext cx="198720" cy="2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7927920" y="5043600"/>
                  <a:ext cx="25236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5661000" y="3141720"/>
                  <a:ext cx="2523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3" name=""/>
            <p:cNvSpPr/>
            <p:nvPr/>
          </p:nvSpPr>
          <p:spPr>
            <a:xfrm>
              <a:off x="7413480" y="3305160"/>
              <a:ext cx="0" cy="1665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7432560" y="4062240"/>
                  <a:ext cx="7732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"/>
            <p:cNvSpPr/>
            <p:nvPr/>
          </p:nvSpPr>
          <p:spPr>
            <a:xfrm rot="16284600">
              <a:off x="5989320" y="3560760"/>
              <a:ext cx="1447920" cy="1371600"/>
            </a:xfrm>
            <a:prstGeom prst="rtTriangl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536800" y="4076640"/>
              <a:ext cx="2490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l"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914400" y="3079800"/>
                <a:ext cx="6146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而得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888840" y="4527720"/>
                <a:ext cx="5054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由于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≠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676520" y="5518080"/>
                <a:ext cx="3971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不相互独立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958680" y="1628640"/>
                <a:ext cx="4503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035000" y="909720"/>
                <a:ext cx="293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或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2" name=""/>
          <p:cNvGrpSpPr/>
          <p:nvPr/>
        </p:nvGrpSpPr>
        <p:grpSpPr>
          <a:xfrm>
            <a:off x="5508720" y="926640"/>
            <a:ext cx="2697120" cy="2142000"/>
            <a:chOff x="5508720" y="926640"/>
            <a:chExt cx="2697120" cy="2142000"/>
          </a:xfrm>
        </p:grpSpPr>
        <p:sp>
          <p:nvSpPr>
            <p:cNvPr id="493" name=""/>
            <p:cNvSpPr/>
            <p:nvPr/>
          </p:nvSpPr>
          <p:spPr>
            <a:xfrm>
              <a:off x="5508720" y="276696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965920" y="92664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965920" y="927000"/>
              <a:ext cx="1828800" cy="1828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6" name=""/>
                <p:cNvSpPr txBox="1"/>
                <p:nvPr/>
              </p:nvSpPr>
              <p:spPr>
                <a:xfrm>
                  <a:off x="6346800" y="1319040"/>
                  <a:ext cx="8510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654520" y="2796840"/>
                  <a:ext cx="198720" cy="2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7927920" y="2828880"/>
                  <a:ext cx="25236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5661000" y="927000"/>
                  <a:ext cx="2523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"/>
            <p:cNvSpPr/>
            <p:nvPr/>
          </p:nvSpPr>
          <p:spPr>
            <a:xfrm>
              <a:off x="7413480" y="1090440"/>
              <a:ext cx="0" cy="1665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7432560" y="1847520"/>
                  <a:ext cx="7732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2" name=""/>
            <p:cNvSpPr/>
            <p:nvPr/>
          </p:nvSpPr>
          <p:spPr>
            <a:xfrm rot="16284600">
              <a:off x="5989320" y="1346040"/>
              <a:ext cx="1447920" cy="1371600"/>
            </a:xfrm>
            <a:prstGeom prst="rtTriangl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536800" y="1314360"/>
              <a:ext cx="2490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l"/>
  </p:transition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722600" y="692280"/>
            <a:ext cx="580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随机变量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互独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其分布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度分别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136520" y="1682640"/>
                <a:ext cx="340380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3436560" y="21826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775040" y="1670040"/>
                <a:ext cx="3200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7100640" y="21304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06960" y="2901960"/>
            <a:ext cx="40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随机变量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分布密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990720" y="5219640"/>
                <a:ext cx="1117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971640" y="35956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于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互独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87840" y="3564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2171880" y="5194440"/>
                <a:ext cx="2247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470480" y="4915080"/>
                <a:ext cx="37591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1066680" y="42670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分布密度函数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758960" y="4178160"/>
                <a:ext cx="2463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sup>
                        </m:sSup>
                      </m:e>
                    </m:nary>
                    <m:r>
                      <m:t xml:space="preserve">dxd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914400" y="1523880"/>
                <a:ext cx="25909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752480" y="2286000"/>
                <a:ext cx="2476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1752480" y="3035160"/>
                <a:ext cx="3009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xd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5181480" y="1599840"/>
            <a:ext cx="2895840" cy="3526200"/>
            <a:chOff x="5181480" y="1599840"/>
            <a:chExt cx="2895840" cy="3526200"/>
          </a:xfrm>
        </p:grpSpPr>
        <p:sp>
          <p:nvSpPr>
            <p:cNvPr id="521" name=""/>
            <p:cNvSpPr/>
            <p:nvPr/>
          </p:nvSpPr>
          <p:spPr>
            <a:xfrm>
              <a:off x="5181480" y="3505320"/>
              <a:ext cx="289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77120" y="159984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7772400" y="3657600"/>
                  <a:ext cx="2541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6172200" y="1676520"/>
                  <a:ext cx="2541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5" name=""/>
                <p:cNvSpPr txBox="1"/>
                <p:nvPr/>
              </p:nvSpPr>
              <p:spPr>
                <a:xfrm>
                  <a:off x="6172200" y="3505320"/>
                  <a:ext cx="291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6" name=""/>
            <p:cNvSpPr/>
            <p:nvPr/>
          </p:nvSpPr>
          <p:spPr>
            <a:xfrm>
              <a:off x="5987880" y="2176200"/>
              <a:ext cx="1816560" cy="250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9429200">
              <a:off x="6033600" y="2209320"/>
              <a:ext cx="914400" cy="2928960"/>
            </a:xfrm>
            <a:prstGeom prst="rect">
              <a:avLst/>
            </a:prstGeom>
            <a:solidFill>
              <a:srgbClr val="00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6540480" y="2482920"/>
                  <a:ext cx="15238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676520" y="5321160"/>
                <a:ext cx="2489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1472400" y="762120"/>
            <a:ext cx="28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机变量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分布函数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97280" y="350532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随机变量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分布密度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301760" y="4343400"/>
                <a:ext cx="594504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612800" y="762120"/>
                <a:ext cx="543564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z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d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0" dur="75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914400" y="499428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714680" y="5105520"/>
                <a:ext cx="4695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设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90720" y="1015920"/>
                <a:ext cx="7848360" cy="355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对某种电子装置的输出测量了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次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得到的观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察值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设它们是相互独立的随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机变量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且都服从同一分布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sSup>
                                          <m:e>
                                            <m:r>
                                              <m:t xml:space="preserve">z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8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62120" y="914400"/>
            <a:ext cx="12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1527120" y="1143000"/>
                <a:ext cx="3340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为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3743280" y="2057400"/>
                <a:ext cx="1940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755880" y="4432320"/>
                <a:ext cx="2516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743280" y="2838600"/>
                <a:ext cx="1790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743280" y="3606840"/>
                <a:ext cx="1801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523880" y="2039760"/>
                <a:ext cx="22100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57160" y="762120"/>
                <a:ext cx="4546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可得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联合分布律为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14400" y="1447920"/>
                <a:ext cx="7543800" cy="27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e>
                        <m:e>
                          <m:r>
                            <m:t xml:space="preserve">3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mr>
                      <m:mr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</m:e>
                        <m:e>
                          <m:r>
                            <m:t xml:space="preserve">6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  <m:e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</m:e>
                        <m:e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914400" y="4444920"/>
                <a:ext cx="7620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关于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边缘分布律即为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分布律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47920" y="5118120"/>
                <a:ext cx="6184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914400" y="762120"/>
                <a:ext cx="697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关于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边缘分布律即为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分布律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14400" y="1447920"/>
                <a:ext cx="7391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0" y="2286000"/>
                <a:ext cx="2324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667400" y="2286000"/>
                <a:ext cx="2438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3124080"/>
                <a:ext cx="7099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86000" y="3962520"/>
                <a:ext cx="562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86000" y="4800600"/>
                <a:ext cx="3733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86000" y="5562720"/>
                <a:ext cx="3848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01:58:12Z</dcterms:created>
  <dc:creator>西安通信学院数学教研室</dc:creator>
  <dc:description/>
  <dc:language>en-US</dc:language>
  <cp:lastModifiedBy>a</cp:lastModifiedBy>
  <dcterms:modified xsi:type="dcterms:W3CDTF">2005-03-06T03:57:04Z</dcterms:modified>
  <cp:revision>490</cp:revision>
  <dc:subject/>
  <dc:title>第三章 备用例题</dc:title>
</cp:coreProperties>
</file>