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495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543800" y="61214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826776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四章  随机变量的数字特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8248680" y="6114960"/>
            <a:ext cx="514440" cy="514440"/>
          </a:xfrm>
          <a:custGeom>
            <a:avLst/>
            <a:gdLst>
              <a:gd name="textAreaLeft" fmla="*/ 33120 w 514440"/>
              <a:gd name="textAreaRight" fmla="*/ 481320 w 51444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88840" y="812880"/>
                <a:ext cx="7797960" cy="51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为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9920" y="685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96840" y="3263760"/>
                <a:ext cx="4826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25680" y="4267080"/>
                <a:ext cx="5803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dy</m:t>
                    </m:r>
                    <m:r>
                      <m:t xml:space="preserve">+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8280" y="5194440"/>
                <a:ext cx="57657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dy</m:t>
                    </m:r>
                    <m:r>
                      <m:t xml:space="preserve">+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2306520" y="736560"/>
          <a:ext cx="4103640" cy="24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6520" y="736560"/>
                    <a:ext cx="4103640" cy="24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7760" y="838080"/>
                <a:ext cx="2679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33920" y="762120"/>
                <a:ext cx="34542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]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88840" y="2044800"/>
                <a:ext cx="4368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86040" y="3048120"/>
                <a:ext cx="2895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86040" y="4038480"/>
                <a:ext cx="3632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98640" y="5257800"/>
                <a:ext cx="4368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nary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334120" y="2362320"/>
            <a:ext cx="3276360" cy="1828800"/>
            <a:chOff x="5334120" y="2362320"/>
            <a:chExt cx="3276360" cy="1828800"/>
          </a:xfrm>
        </p:grpSpPr>
        <p:sp>
          <p:nvSpPr>
            <p:cNvPr id="105" name=""/>
            <p:cNvSpPr/>
            <p:nvPr/>
          </p:nvSpPr>
          <p:spPr>
            <a:xfrm>
              <a:off x="5334120" y="2362320"/>
              <a:ext cx="3276360" cy="1828800"/>
            </a:xfrm>
            <a:prstGeom prst="wedgeRoundRectCallout">
              <a:avLst>
                <a:gd name="adj1" fmla="val -35611"/>
                <a:gd name="adj2" fmla="val 69185"/>
                <a:gd name="adj3" fmla="val 1666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5532480" y="2459160"/>
                  <a:ext cx="2924280" cy="16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说明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此题也可先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求出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再利用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y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d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ipe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63640" y="825480"/>
                <a:ext cx="4825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1968480"/>
                <a:ext cx="2984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22640" y="2959200"/>
                <a:ext cx="3340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y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7920" y="3048120"/>
                <a:ext cx="1879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05640" y="3048120"/>
                <a:ext cx="647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79600" y="4267080"/>
                <a:ext cx="4191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0" y="5321160"/>
                <a:ext cx="2971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14400" y="762120"/>
                <a:ext cx="52578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y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dy</m:t>
                            </m:r>
                          </m:e>
                        </m:nary>
                        <m:r>
                          <m:t xml:space="preserve">]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14400" y="2425680"/>
                <a:ext cx="3174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y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114800" y="2666880"/>
                <a:ext cx="1663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791320" y="2666880"/>
                <a:ext cx="647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888840" y="4038480"/>
                <a:ext cx="46738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26080" y="4038480"/>
                <a:ext cx="3137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94040" y="5270400"/>
                <a:ext cx="2095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14800" y="5270400"/>
                <a:ext cx="647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4500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51040" y="825480"/>
                <a:ext cx="7823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都服从标准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正态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数学期望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987840" y="1981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28880" y="2089080"/>
                <a:ext cx="75816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概率密度为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58680" y="3276720"/>
                <a:ext cx="45975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00880" y="3276720"/>
                <a:ext cx="2184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67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81080" y="4419720"/>
                <a:ext cx="3213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51200" y="5130720"/>
                <a:ext cx="4813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nary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dx</m:t>
                    </m:r>
                    <m:r>
                      <m:t xml:space="preserve"> </m:t>
                    </m:r>
                    <m:r>
                      <m:t xml:space="preserve">d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14400" y="838080"/>
                <a:ext cx="4191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82720" y="15238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d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84520" y="280044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841400" y="4038480"/>
                <a:ext cx="34164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46720" y="4241880"/>
                <a:ext cx="90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400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22440" y="812880"/>
                <a:ext cx="825480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甲、乙两人相约于某地在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会面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分别是甲、乙到达的时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</m:t>
                        </m:r>
                      </m:e>
                      <m:e>
                        <m:r>
                          <m:t xml:space="preserve">立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分别为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11520" y="425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67000" y="4317840"/>
                <a:ext cx="4127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76520" y="4991040"/>
                <a:ext cx="5778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,0</m:t>
                            </m:r>
                            <m:r>
                              <m:t xml:space="preserve">&lt;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70960" y="730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所求数学期望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63640" y="1612800"/>
                <a:ext cx="4978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dx</m:t>
                    </m:r>
                    <m:r>
                      <m:t xml:space="preserve"> 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82720" y="2755800"/>
                <a:ext cx="6743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dxdy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∬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14400" y="3886200"/>
                <a:ext cx="1231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14400" y="4952880"/>
                <a:ext cx="158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小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4925880" y="3735360"/>
          <a:ext cx="295920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5880" y="3735360"/>
                    <a:ext cx="29592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16400" y="6094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1200" y="685800"/>
                <a:ext cx="849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某班级的一次考试由两次测验组成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别表示一名学生第一次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第二次测验的得分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联合分布律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\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若规定这次考试的得分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若规定这次考试的得分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第四章 备用例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984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7000" y="838080"/>
                <a:ext cx="7607520" cy="481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进行非学历考试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规定考甲</m:t>
                        </m:r>
                        <m:r>
                          <m:t xml:space="preserve">、</m:t>
                        </m:r>
                        <m:r>
                          <m:rPr>
                            <m:lit/>
                            <m:nor/>
                          </m:rPr>
                          <m:t xml:space="preserve">乙两门课程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每门课考第一次未通过都允许考第二次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考生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在课程甲通过后才能考课程乙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如两门课程都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过可获得一张资格证书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某考生通过课程甲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各次考试的概率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通过课程乙的各次考试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概率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各次考试的结果相互独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又设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生参加考试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直至获得资格证书或者不准予再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为止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表示考生总共需考试的次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分布律以及数学期望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87840" y="77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1447920"/>
                <a:ext cx="3860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47920" y="2209680"/>
                <a:ext cx="3200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47920" y="3733920"/>
                <a:ext cx="659124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47920" y="5435640"/>
                <a:ext cx="1447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00240" y="1143000"/>
                <a:ext cx="3289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828800" y="1905120"/>
                <a:ext cx="27687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28800" y="3352680"/>
                <a:ext cx="66294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5207040"/>
                <a:ext cx="160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6868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76240" y="747720"/>
                <a:ext cx="781056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量相互独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都服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从数学期望为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指数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数学期望和方差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911520" y="2451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67000" y="2527200"/>
                <a:ext cx="5003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函数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74920" y="3149640"/>
                <a:ext cx="3581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1640" y="4432320"/>
                <a:ext cx="6057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函数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95320" y="5054760"/>
                <a:ext cx="59562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z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52560" y="762120"/>
                <a:ext cx="28573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39840" y="1359000"/>
                <a:ext cx="3581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n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z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r>
                              <m:t xml:space="preserve">z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967680" y="25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51040" y="3232080"/>
                <a:ext cx="2958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z</m:t>
                            </m:r>
                          </m:sup>
                        </m:sSup>
                        <m: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98800" y="323208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z</m:t>
                            </m:r>
                          </m:sup>
                        </m:sSup>
                        <m: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416720" y="3156120"/>
                <a:ext cx="660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911520" y="4495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98680" y="4343400"/>
                <a:ext cx="412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z</m:t>
                            </m:r>
                          </m:sup>
                        </m:sSup>
                        <m: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835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5120" y="5486400"/>
                <a:ext cx="3682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715000" y="52578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52560" y="838080"/>
                <a:ext cx="7657920" cy="31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某商店在夏季经营某种应时产品的买卖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若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产品在夏季售出一千克净赚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元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若在夏季末尚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未售出则一千克净亏损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产品销售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千克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是一个随机变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近似地为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如图所示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试确定商店的进货量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千克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使得所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获利润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数学期望为最大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9" name=""/>
          <p:cNvGraphicFramePr/>
          <p:nvPr/>
        </p:nvGraphicFramePr>
        <p:xfrm>
          <a:off x="1905120" y="4159080"/>
          <a:ext cx="4968720" cy="208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59080"/>
                    <a:ext cx="496872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87840" y="76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41320" y="77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题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66960" y="1523880"/>
                <a:ext cx="4876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8352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88840" y="2971800"/>
                <a:ext cx="7632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h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914400" y="3962520"/>
                <a:ext cx="6845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]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67680" y="481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46080" y="5397480"/>
                <a:ext cx="7391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[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−</m:t>
                    </m:r>
                    <m:r>
                      <m:t xml:space="preserve">h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67680" y="65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14400" y="1295280"/>
                <a:ext cx="6858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h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95320" y="3289320"/>
                <a:ext cx="3301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39960" y="4419720"/>
                <a:ext cx="2641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48040" y="4444920"/>
                <a:ext cx="4216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是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函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14400" y="5257800"/>
                <a:ext cx="293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h</m:t>
                        </m:r>
                      </m:den>
                    </m:f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67080" y="5257800"/>
                <a:ext cx="2425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88840" y="1003320"/>
                <a:ext cx="6045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又因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39960" y="2057400"/>
                <a:ext cx="706104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故知取</m:t>
                        </m:r>
                        <m:r>
                          <m:t xml:space="preserve">h</m:t>
                        </m:r>
                        <m:r>
                          <m:t xml:space="preserve">使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时利润的数学期望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最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4500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71640" y="755640"/>
                <a:ext cx="772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某城市一天内发生严重刑事案件数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服从以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为参数的泊松分布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记一年内未发生严重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刑事案件的天数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数学期望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987840" y="2362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14480" y="23986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入随机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00200" y="2971800"/>
                <a:ext cx="6794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若在第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天未发生严重行事案件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003320" y="4267080"/>
                <a:ext cx="4330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075680" y="481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5920" y="5486400"/>
                <a:ext cx="3175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230720" y="5221440"/>
                <a:ext cx="1803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124680" y="5452920"/>
                <a:ext cx="1015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52560" y="851040"/>
                <a:ext cx="2781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22640" y="1625760"/>
                <a:ext cx="37843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/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21480" y="2730600"/>
                <a:ext cx="2412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7760" y="3314880"/>
                <a:ext cx="28195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003320" y="4152960"/>
                <a:ext cx="3416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数学期望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84240" y="4838760"/>
                <a:ext cx="2286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359160" y="5067360"/>
                <a:ext cx="1739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257800" y="5067360"/>
                <a:ext cx="1549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(</m:t>
                    </m:r>
                    <m:r>
                      <m:t xml:space="preserve">天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1520" y="685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9480"/>
            <a:ext cx="7772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题意知考试总共至少需考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而最多只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31840" y="1295280"/>
                <a:ext cx="6274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事件</m:t>
                    </m:r>
                    <m:r>
                      <m:t xml:space="preserve">“</m:t>
                    </m:r>
                    <m:r>
                      <m:rPr>
                        <m:lit/>
                        <m:nor/>
                      </m:rPr>
                      <m:t xml:space="preserve">课程甲在考第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次时通过</m:t>
                    </m:r>
                    <m:r>
                      <m:t xml:space="preserve">”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14400" y="1905120"/>
                <a:ext cx="764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事件</m:t>
                    </m:r>
                    <m:r>
                      <m:t xml:space="preserve">“</m:t>
                    </m:r>
                    <m:r>
                      <m:rPr>
                        <m:lit/>
                        <m:nor/>
                      </m:rPr>
                      <m:t xml:space="preserve">课程乙在考第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次时通过</m:t>
                    </m:r>
                    <m:r>
                      <m:t xml:space="preserve">”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282760" y="2438280"/>
            <a:ext cx="497376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件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 }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考试总共考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一事件只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两种互不相容的情况下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种是课程甲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都在第一次考试时通过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亦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956200" y="3733920"/>
                <a:ext cx="1892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发生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914400" y="4175280"/>
            <a:ext cx="7848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种是课程甲在第一次、第一次考试均未通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亦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898640" y="4863960"/>
                <a:ext cx="190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发生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90720" y="5562720"/>
                <a:ext cx="427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44640" y="76212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39960" y="838080"/>
                <a:ext cx="7734240" cy="20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设盒子中有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张卡片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两张标着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两张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标着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两张标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现从中任取</m:t>
                        </m:r>
                        <m:r>
                          <m:t xml:space="preserve">m</m:t>
                        </m:r>
                        <m:r>
                          <m:t xml:space="preserve">张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求在盒中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余下的卡片中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仍然成对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即两张标着相同号码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数的数学期望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987840" y="2971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12800" y="3048120"/>
                <a:ext cx="73026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设在盒中余下的卡片中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仍然成对的对数为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65160" y="3733920"/>
                <a:ext cx="3606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引入随机变量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如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77760" y="4419720"/>
                <a:ext cx="6756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如第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对仍留在盒中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876920" y="5638680"/>
                <a:ext cx="220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914400"/>
                <a:ext cx="414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39960" y="1600200"/>
                <a:ext cx="645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第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对仍留在盒中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905120" y="2374920"/>
                <a:ext cx="29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3809880"/>
                <a:ext cx="5016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/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05120" y="5181480"/>
                <a:ext cx="3733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70960" y="7761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所求的数学期望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14400" y="1676520"/>
                <a:ext cx="2552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492360" y="1676520"/>
                <a:ext cx="1689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752480" y="312408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90720" y="4489560"/>
                <a:ext cx="6933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例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则有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06480" y="76212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52560" y="851040"/>
                <a:ext cx="7886520" cy="30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概率密度为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91152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600200" y="4178160"/>
                <a:ext cx="650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267080" y="4863960"/>
                <a:ext cx="4114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267080" y="5549760"/>
                <a:ext cx="1981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27000" y="838080"/>
                <a:ext cx="2349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33480" y="1523880"/>
                <a:ext cx="4635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638680" y="1523880"/>
                <a:ext cx="12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48440" y="1523880"/>
                <a:ext cx="647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12880" y="2679840"/>
                <a:ext cx="4673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同样</m:t>
                    </m:r>
                    <m:r>
                      <m:t xml:space="preserve">,</m:t>
                    </m:r>
                    <m:r>
                      <m:t xml:space="preserve">当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590920" y="3848040"/>
                <a:ext cx="336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914400" y="4673520"/>
                <a:ext cx="4292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不是相互独立的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5359320"/>
                <a:ext cx="3886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又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38760" y="5270400"/>
                <a:ext cx="156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26360" y="5499000"/>
                <a:ext cx="583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14400" y="787320"/>
                <a:ext cx="2819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同样有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07920" y="1523880"/>
                <a:ext cx="688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而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  <m:r>
                      <m:t xml:space="preserve">dx</m:t>
                    </m:r>
                    <m:r>
                      <m:t xml:space="preserve"> 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793960" y="2743200"/>
                <a:ext cx="3683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743200" y="388620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9835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4559400"/>
                <a:ext cx="3720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977760" y="5334120"/>
                <a:ext cx="267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不相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09640" y="1413000"/>
            <a:ext cx="7620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根据生命表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年龄段保险者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 年中每个人死亡的概率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02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这类人参加人寿保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在死亡时家属可从保险公司领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赔偿金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每人一年须交保险费多少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75520" y="69228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你知道自己该交多少保险费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5791320" y="3957480"/>
            <a:ext cx="2447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440" y="82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38320" y="85104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中死亡人数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151600" y="912960"/>
                <a:ext cx="3327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1320" y="1628640"/>
                <a:ext cx="73026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⋅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019240" y="2695680"/>
                <a:ext cx="1447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人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826920" y="3429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保险人所得赔偿金的期望值应为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49400" y="4221000"/>
                <a:ext cx="36324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35480" y="4876920"/>
            <a:ext cx="35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设每人一年须交保险费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26920" y="692280"/>
            <a:ext cx="7696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由被保险人交的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纯保险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”与他们所能得到的赔偿金的期望值相等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133720" y="2430360"/>
                <a:ext cx="2501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24280" y="2433600"/>
                <a:ext cx="1981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693800" y="335772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每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应向保险公司交保险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233532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600200" y="2425680"/>
                <a:ext cx="3009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39960" y="3111480"/>
                <a:ext cx="39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知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95320" y="439416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527200" y="5168880"/>
                <a:ext cx="36831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261120" y="5549760"/>
                <a:ext cx="1434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908600" y="1704960"/>
            <a:ext cx="3695760" cy="3371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8080" y="60948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大学二年级学生进行了一次数学统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其成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75, 9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态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求学生成绩的期望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876240" y="2666880"/>
                <a:ext cx="417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029200" y="2666880"/>
                <a:ext cx="3200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362320" y="3429000"/>
                <a:ext cx="4254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349360" y="4114800"/>
                <a:ext cx="369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88840" y="4876920"/>
                <a:ext cx="6426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362320" y="5638680"/>
                <a:ext cx="3060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762120"/>
                <a:ext cx="685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同理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17720" y="1371600"/>
                <a:ext cx="4940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14400" y="2057400"/>
                <a:ext cx="271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8856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31880" y="2895480"/>
                <a:ext cx="430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427560" y="3575160"/>
                <a:ext cx="2120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879480" y="4191120"/>
                <a:ext cx="6919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又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834320" y="4233960"/>
                <a:ext cx="81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12960" y="5181480"/>
                <a:ext cx="739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945360" y="762120"/>
            <a:ext cx="7284240" cy="1838160"/>
            <a:chOff x="945360" y="762120"/>
            <a:chExt cx="7284240" cy="1838160"/>
          </a:xfrm>
        </p:grpSpPr>
        <p:sp>
          <p:nvSpPr>
            <p:cNvPr id="286" name=""/>
            <p:cNvSpPr/>
            <p:nvPr/>
          </p:nvSpPr>
          <p:spPr>
            <a:xfrm>
              <a:off x="974520" y="990720"/>
              <a:ext cx="131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5360" y="207972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600200" y="2133720"/>
                  <a:ext cx="180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89" name=""/>
            <p:cNvGrpSpPr/>
            <p:nvPr/>
          </p:nvGrpSpPr>
          <p:grpSpPr>
            <a:xfrm>
              <a:off x="2362320" y="762120"/>
              <a:ext cx="5867280" cy="1143000"/>
              <a:chOff x="2362320" y="762120"/>
              <a:chExt cx="5867280" cy="11430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362320" y="762120"/>
                <a:ext cx="5867280" cy="1143000"/>
                <a:chOff x="2362320" y="762120"/>
                <a:chExt cx="5867280" cy="1143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362320" y="1269720"/>
                  <a:ext cx="58672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61360" y="762120"/>
                  <a:ext cx="0" cy="11430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93" name=""/>
                  <p:cNvSpPr txBox="1"/>
                  <p:nvPr/>
                </p:nvSpPr>
                <p:spPr>
                  <a:xfrm>
                    <a:off x="4038840" y="914400"/>
                    <a:ext cx="327636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4" name=""/>
                  <p:cNvSpPr txBox="1"/>
                  <p:nvPr/>
                </p:nvSpPr>
                <p:spPr>
                  <a:xfrm>
                    <a:off x="4191120" y="1371600"/>
                    <a:ext cx="48276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5" name=""/>
                  <p:cNvSpPr txBox="1"/>
                  <p:nvPr/>
                </p:nvSpPr>
                <p:spPr>
                  <a:xfrm>
                    <a:off x="5257800" y="1371600"/>
                    <a:ext cx="48276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6019920" y="1371600"/>
                    <a:ext cx="64764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6782040" y="1371600"/>
                    <a:ext cx="64764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8" name=""/>
                  <p:cNvSpPr txBox="1"/>
                  <p:nvPr/>
                </p:nvSpPr>
                <p:spPr>
                  <a:xfrm>
                    <a:off x="2895840" y="914400"/>
                    <a:ext cx="3553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971800" y="1447920"/>
                    <a:ext cx="26676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wipe dir="l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41480" y="762120"/>
                <a:ext cx="73404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一电路中电流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与电阻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两个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相互独立的随机变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概率密度分别为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911520" y="390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28800" y="4038480"/>
                <a:ext cx="2133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962520" y="4038480"/>
                <a:ext cx="1854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709720" y="4559400"/>
            <a:ext cx="4092840" cy="69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709720" y="5346720"/>
                <a:ext cx="3073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i</m:t>
                        </m:r>
                      </m:e>
                    </m:nary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[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dr</m:t>
                        </m:r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931000" y="5423040"/>
                <a:ext cx="1155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838080" y="70812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925640" y="2286000"/>
                <a:ext cx="2603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111480"/>
                <a:ext cx="3746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900080" y="4019400"/>
                <a:ext cx="2719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668840" y="4089240"/>
                <a:ext cx="7621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893960" y="4863960"/>
                <a:ext cx="33084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90144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817640" y="1523880"/>
                <a:ext cx="41734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516560" y="2286000"/>
                <a:ext cx="3132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066680" y="762120"/>
                <a:ext cx="6972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求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857160" y="7221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217520" y="838080"/>
                <a:ext cx="6097680" cy="41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为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679320" y="541008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422360" y="5321160"/>
                <a:ext cx="3911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914400" y="73332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914400" y="2362320"/>
                <a:ext cx="5943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14400" y="1828800"/>
                <a:ext cx="1523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495680" y="3657600"/>
                <a:ext cx="596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273400" y="3429000"/>
                <a:ext cx="219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914400" y="4419720"/>
                <a:ext cx="2641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27000" y="5257800"/>
                <a:ext cx="6591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824440" y="976320"/>
                <a:ext cx="2184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28800" y="793800"/>
                <a:ext cx="4851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b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613320" y="4175280"/>
                <a:ext cx="838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927000" y="3919680"/>
                <a:ext cx="2692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之得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500720" y="3930480"/>
                <a:ext cx="11300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340000" y="838080"/>
                <a:ext cx="266688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044360" y="190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590920" y="3581280"/>
                <a:ext cx="1993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39960" y="4648320"/>
                <a:ext cx="4165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395440" y="5257800"/>
                <a:ext cx="3975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357960" y="5257800"/>
                <a:ext cx="2133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03320" y="876240"/>
                <a:ext cx="6705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508120" y="1752480"/>
                <a:ext cx="1828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219320" y="2705040"/>
                <a:ext cx="6851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83520" y="3938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556080" y="4813200"/>
                <a:ext cx="1092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155600" y="755640"/>
                <a:ext cx="5550120" cy="308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密度为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sup>
                                  </m:sSup>
                                  <m:r>
                                    <m:t xml:space="preserve">/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!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为正整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试证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≥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854360" y="5410080"/>
                <a:ext cx="324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186520" y="5334120"/>
                <a:ext cx="2966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d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838080" y="693720"/>
            <a:ext cx="12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816200" y="3825720"/>
                <a:ext cx="6794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d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828800" y="2833560"/>
                <a:ext cx="3408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828800" y="4433760"/>
                <a:ext cx="4514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828800" y="5195880"/>
                <a:ext cx="3568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923760" y="838080"/>
                <a:ext cx="2567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646440" y="1066680"/>
                <a:ext cx="2144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257800" y="2909880"/>
                <a:ext cx="1025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00000" y="2076480"/>
                <a:ext cx="4622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885960" y="3652920"/>
                <a:ext cx="435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又因为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600200" y="2743200"/>
                <a:ext cx="191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505320" y="2743200"/>
                <a:ext cx="1143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49440" y="4437000"/>
                <a:ext cx="4102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562040" y="1981080"/>
                <a:ext cx="42163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765760" y="1752480"/>
                <a:ext cx="1917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600200" y="1219320"/>
                <a:ext cx="34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972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14400" y="1523880"/>
                <a:ext cx="572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362320" y="2362320"/>
                <a:ext cx="2019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06760" y="2400480"/>
                <a:ext cx="290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90720" y="3200400"/>
                <a:ext cx="6413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05120" y="4572000"/>
                <a:ext cx="3809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14400" y="5257800"/>
                <a:ext cx="6273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例如</m:t>
                    </m:r>
                    <m:r>
                      <m:t xml:space="preserve"> </m:t>
                    </m:r>
                    <m:r>
                      <m:t xml:space="preserve">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(</m:t>
                    </m:r>
                    <m:r>
                      <m:t xml:space="preserve">次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14400" y="762120"/>
                <a:ext cx="3924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4500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041480" y="698400"/>
                <a:ext cx="5511600" cy="542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律为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m>
                          <m:mr>
                            <m:e/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1520" y="914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76520" y="762120"/>
                <a:ext cx="4838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705720" y="762120"/>
                <a:ext cx="799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14400" y="1828800"/>
                <a:ext cx="6730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14400" y="3200400"/>
                <a:ext cx="132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20880" y="3962520"/>
                <a:ext cx="4647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193920" y="5130720"/>
                <a:ext cx="2286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</m:t>
                        </m:r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1003320"/>
                <a:ext cx="163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令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55800" y="838080"/>
                <a:ext cx="1511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</m:t>
                        </m:r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349880" y="838080"/>
                <a:ext cx="1638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235240" y="2184480"/>
                <a:ext cx="2438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743360" y="2209680"/>
                <a:ext cx="1968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88840" y="3429000"/>
                <a:ext cx="3835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476440" y="4343400"/>
                <a:ext cx="4686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27000" y="990720"/>
                <a:ext cx="5613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14400" y="3009960"/>
                <a:ext cx="29718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38480" y="3162240"/>
                <a:ext cx="64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01:58:12Z</dcterms:created>
  <dc:creator>西安通信学院数学教研室</dc:creator>
  <dc:description/>
  <dc:language>en-US</dc:language>
  <cp:lastModifiedBy>a</cp:lastModifiedBy>
  <dcterms:modified xsi:type="dcterms:W3CDTF">2005-03-06T08:23:58Z</dcterms:modified>
  <cp:revision>490</cp:revision>
  <dc:subject/>
  <dc:title>第四章 备用例题</dc:title>
</cp:coreProperties>
</file>